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691813" cy="7559675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A01-9A3B-4BFA-9E01-CD13F5AE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B0C-235A-4888-B45B-A8DA1C9E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929-7343-45B1-9A74-9CFF2CFC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757-B9B8-47A1-97F3-701FCA54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C38-0485-4E96-8D11-CDF3B889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381-ECBE-46B7-8F8B-A558E5AA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7F3-0571-4986-843C-A3F17CBA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497-728A-441F-8CA3-10AA5134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985-C8D8-4DE4-9F48-8BAD44B0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151-A5AF-4960-AE35-9CB62BE3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EB3-7A99-4D7A-90D2-43C6786E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B7F-DB28-4DFE-85D9-74470730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6B3D3B6A-2FA8-4D77-8017-553BA2C66C7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a trvání projektu: 09/2009 – 08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ování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ropský sociální fond v ČR a státní rozpočet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 proškol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120 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řádáme: semináře, odborné konzultace, worksh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kup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- ženy se záměrem podni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 - začínající podnikatelky první 3 roky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- začínající podnikatelky: oblast služeb péče o děti do 15 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artner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avská asociace podnikatelek a manažerek, o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onální klub B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9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57880" y="303120"/>
            <a:ext cx="1776240" cy="12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8000" y="1405080"/>
            <a:ext cx="4248000" cy="174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18000" y="3060720"/>
            <a:ext cx="4969080" cy="199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6360" y="4807080"/>
            <a:ext cx="4464000" cy="170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1981080"/>
            <a:ext cx="397800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1- zapojeno 168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2360" y="3852720"/>
            <a:ext cx="44085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2- zapojeno 79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869080"/>
            <a:ext cx="491328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3- zapojeno 19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475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abídka pro klien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– cykly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adenská čin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stupní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konzultace ( účetní, daňové, marketing, reklama, PR, stres a časový management, koučink, ochrana loga, moderní technologie, web-stránky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práv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tkání s podnikatelkami – business kluby, kulatý stůl – předávání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8600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23555" r="0" b="37688"/>
          <a:stretch/>
        </p:blipFill>
        <p:spPr>
          <a:xfrm>
            <a:off x="233280" y="1981080"/>
            <a:ext cx="10082160" cy="525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402000" y="687708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Těšíme se na shledano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na dalším ze seminářů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podnikanizen@rhkbrno.cz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www.rhkbrno.cz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0000" y="29718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dnikanizen@rhkbrno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ww.rhkbrno.c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75080" y="673272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15:21Z</dcterms:created>
  <dc:creator>Věra</dc:creator>
  <dc:description/>
  <dc:language>en-US</dc:language>
  <cp:lastModifiedBy>-</cp:lastModifiedBy>
  <dcterms:modified xsi:type="dcterms:W3CDTF">2011-06-15T08:24:43Z</dcterms:modified>
  <cp:revision>67</cp:revision>
  <dc:subject/>
  <dc:title>První kroky pro vstup do podnikání Ing. Dagmar Jelínková ECONOMY RATING</dc:title>
</cp:coreProperties>
</file>